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45619988" cy="4561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2DAB-698D-49A6-AE28-86336D0B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0827-4D1F-42E9-96AF-B3273FB4A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1D22-30B1-4B9E-AE0E-E2729C83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41AC-6613-4C38-B273-D812F9365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178-A232-4A04-B578-3421AFB14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76A1-46A0-49BF-AAEF-4B22512A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162F-D526-4F2E-988F-253DE10FB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E15E-CAB0-4776-8B6C-D335E154E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207-FEAA-4E7D-AA50-DB5CAA3F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7E9-A464-4A37-876D-75F190DB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F43-7A1D-4F67-A1DC-E7FEA0106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D23-2E2D-47F8-8F35-A055551ED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C56C1-9B95-40FA-B067-263F287FB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0" y="1676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_mas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2819520"/>
            <a:ext cx="22860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 Ver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~palacios/palaci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5638680" y="228600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777640" y="23223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38480" y="4572000"/>
            <a:ext cx="13716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5257800"/>
            <a:ext cx="9907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2819520" y="4876560"/>
            <a:ext cx="121896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1120" y="525780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793480" y="3733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3600" y="42670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2" idx="1"/>
            <a:endCxn id="46" idx="0"/>
          </p:cNvCxnSpPr>
          <p:nvPr/>
        </p:nvCxnSpPr>
        <p:spPr>
          <a:xfrm flipV="1" rot="10800000">
            <a:off x="2324160" y="3123720"/>
            <a:ext cx="2248200" cy="21340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4648320" y="533520"/>
            <a:ext cx="22096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R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5562720" y="9903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717520" y="129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2" idx="1"/>
            <a:endCxn id="56" idx="6"/>
          </p:cNvCxnSpPr>
          <p:nvPr/>
        </p:nvCxnSpPr>
        <p:spPr>
          <a:xfrm flipV="1" rot="10800000">
            <a:off x="2286000" y="761760"/>
            <a:ext cx="2362680" cy="1143360"/>
          </a:xfrm>
          <a:prstGeom prst="curvedConnector3">
            <a:avLst>
              <a:gd name="adj1" fmla="val 24977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3050640" y="7621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14400" y="1523880"/>
            <a:ext cx="137160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76520" y="2286000"/>
            <a:ext cx="2361960" cy="251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10400" y="2438280"/>
            <a:ext cx="67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ai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t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5" idx="6"/>
            <a:endCxn id="42" idx="2"/>
          </p:cNvCxnSpPr>
          <p:nvPr/>
        </p:nvCxnSpPr>
        <p:spPr>
          <a:xfrm flipV="1">
            <a:off x="5410080" y="3429000"/>
            <a:ext cx="305280" cy="148644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4498200" y="3581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2" idx="1"/>
            <a:endCxn id="45" idx="0"/>
          </p:cNvCxnSpPr>
          <p:nvPr/>
        </p:nvCxnSpPr>
        <p:spPr>
          <a:xfrm flipH="1" flipV="1" rot="10800000">
            <a:off x="4571640" y="3124080"/>
            <a:ext cx="152640" cy="1448280"/>
          </a:xfrm>
          <a:prstGeom prst="curvedConnector4">
            <a:avLst>
              <a:gd name="adj1" fmla="val -2127"/>
              <a:gd name="adj2" fmla="val 40452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2T18:04:20Z</dcterms:created>
  <dc:creator>Jack Lange</dc:creator>
  <dc:description/>
  <dc:language>en-US</dc:language>
  <cp:lastModifiedBy>Jack Lange</cp:lastModifiedBy>
  <dcterms:modified xsi:type="dcterms:W3CDTF">2009-02-27T22:40:32Z</dcterms:modified>
  <cp:revision>5</cp:revision>
  <dc:subject/>
  <dc:title>Slide 1</dc:title>
</cp:coreProperties>
</file>