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45619988" cy="4561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53AC-5DD4-4CF5-A420-BBDBDDFC8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374A-F395-4FA5-9139-58A94B9A0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2F27-B44C-4D20-80C4-D101910C0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7AC7-CB9D-477C-A367-103B7F5B5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5E3D-EC54-4A5D-925F-EBCAA2BEF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58BF-C8E6-4DF9-BBBF-2B4C38AF5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4A4F-9581-4C43-B0C2-A1AE47A7D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389B-7708-49D2-8793-5D865C2A8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EB95-A6B1-4507-8D0B-F7E64446E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2343-3635-4AA2-88BE-654CDC0E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E57B-7D70-454F-8E97-E29BD6F0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5384-AAAA-4E8D-8A54-87F68EC0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ECBA9-B676-4079-9BFC-1CC60260E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1676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_mas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2819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5638680" y="228600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77640" y="23223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4572000"/>
            <a:ext cx="13716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5257800"/>
            <a:ext cx="9907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819520" y="4876560"/>
            <a:ext cx="12189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01120" y="525780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3480" y="37339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83600" y="42670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2" idx="1"/>
            <a:endCxn id="46" idx="0"/>
          </p:cNvCxnSpPr>
          <p:nvPr/>
        </p:nvCxnSpPr>
        <p:spPr>
          <a:xfrm flipV="1" rot="10800000">
            <a:off x="2324160" y="3123720"/>
            <a:ext cx="2248200" cy="213408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4648320" y="53352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Re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562720" y="99036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17520" y="1295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2" idx="1"/>
            <a:endCxn id="56" idx="6"/>
          </p:cNvCxnSpPr>
          <p:nvPr/>
        </p:nvCxnSpPr>
        <p:spPr>
          <a:xfrm flipV="1" rot="10800000">
            <a:off x="2286000" y="761760"/>
            <a:ext cx="2362680" cy="1143360"/>
          </a:xfrm>
          <a:prstGeom prst="curvedConnector3">
            <a:avLst>
              <a:gd name="adj1" fmla="val 24977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3050640" y="7621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1523880"/>
            <a:ext cx="137160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2286000"/>
            <a:ext cx="2361960" cy="251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10400" y="243828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5" idx="6"/>
            <a:endCxn id="42" idx="2"/>
          </p:cNvCxnSpPr>
          <p:nvPr/>
        </p:nvCxnSpPr>
        <p:spPr>
          <a:xfrm flipV="1">
            <a:off x="5410080" y="3429000"/>
            <a:ext cx="305280" cy="14864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4498200" y="3581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42" idx="1"/>
            <a:endCxn id="45" idx="0"/>
          </p:cNvCxnSpPr>
          <p:nvPr/>
        </p:nvCxnSpPr>
        <p:spPr>
          <a:xfrm flipH="1" flipV="1" rot="10800000">
            <a:off x="4571640" y="3124080"/>
            <a:ext cx="152640" cy="1448280"/>
          </a:xfrm>
          <a:prstGeom prst="curvedConnector4">
            <a:avLst>
              <a:gd name="adj1" fmla="val -2127"/>
              <a:gd name="adj2" fmla="val 404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18:04:20Z</dcterms:created>
  <dc:creator>Jack Lange</dc:creator>
  <dc:description/>
  <dc:language>en-US</dc:language>
  <cp:lastModifiedBy>Jack Lange</cp:lastModifiedBy>
  <dcterms:modified xsi:type="dcterms:W3CDTF">2009-02-27T22:40:32Z</dcterms:modified>
  <cp:revision>5</cp:revision>
  <dc:subject/>
  <dc:title>Slide 1</dc:title>
</cp:coreProperties>
</file>