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45619988" cy="4561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3AD9D-F74E-4C35-A725-6BA3445D7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FCD87-7FA1-47C5-8203-A7B6DB6E7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B8BE9-97F7-4A48-BEE6-33F108015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C6A34-7417-4C37-BD03-CD1DE9F73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8CC1D-0907-44C1-B823-5741A3577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EAE00-ABE1-4049-80C0-094C6FE62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46866-3EDB-41A0-9EB4-0CE7455C7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CA4FA-8729-44D4-95C0-CFF0C2BD7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9125D-E4AE-4C39-AF0D-3E4B33C69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545A9-7F69-4794-92C8-F9217B99D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0F638-CDF4-4C86-9605-991C08438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651C3-4D45-4287-B8FF-4F7C194CA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7ED99-F04F-4437-B92C-712544DF4B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0" y="1676520"/>
            <a:ext cx="22860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~palacios/palacios_mast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2819520"/>
            <a:ext cx="22860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rrent Ver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~palacios/palacio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V="1">
            <a:off x="5638680" y="2286000"/>
            <a:ext cx="0" cy="5335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777640" y="232236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038480" y="4572000"/>
            <a:ext cx="137160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828800" y="5257800"/>
            <a:ext cx="990720" cy="533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2819520" y="4876560"/>
            <a:ext cx="121896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01120" y="5257800"/>
            <a:ext cx="676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mai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t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793480" y="373392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983600" y="42670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" name=""/>
          <p:cNvCxnSpPr>
            <a:stCxn id="42" idx="1"/>
            <a:endCxn id="46" idx="0"/>
          </p:cNvCxnSpPr>
          <p:nvPr/>
        </p:nvCxnSpPr>
        <p:spPr>
          <a:xfrm flipV="1" rot="10800000">
            <a:off x="2324160" y="3123720"/>
            <a:ext cx="2248200" cy="2134080"/>
          </a:xfrm>
          <a:prstGeom prst="curved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4648320" y="533520"/>
            <a:ext cx="220968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b Re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5562720" y="990360"/>
            <a:ext cx="0" cy="6858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717520" y="12952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5" name=""/>
          <p:cNvCxnSpPr>
            <a:stCxn id="52" idx="1"/>
            <a:endCxn id="56" idx="6"/>
          </p:cNvCxnSpPr>
          <p:nvPr/>
        </p:nvCxnSpPr>
        <p:spPr>
          <a:xfrm flipV="1" rot="10800000">
            <a:off x="2286000" y="761760"/>
            <a:ext cx="2362680" cy="1143360"/>
          </a:xfrm>
          <a:prstGeom prst="curvedConnector3">
            <a:avLst>
              <a:gd name="adj1" fmla="val 24977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"/>
          <p:cNvSpPr/>
          <p:nvPr/>
        </p:nvSpPr>
        <p:spPr>
          <a:xfrm>
            <a:off x="3050640" y="76212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14400" y="1523880"/>
            <a:ext cx="1371600" cy="7621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elop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76520" y="2286000"/>
            <a:ext cx="2361960" cy="2514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210400" y="2438280"/>
            <a:ext cx="676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mai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t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5" idx="6"/>
            <a:endCxn id="42" idx="2"/>
          </p:cNvCxnSpPr>
          <p:nvPr/>
        </p:nvCxnSpPr>
        <p:spPr>
          <a:xfrm flipV="1">
            <a:off x="5410080" y="3429000"/>
            <a:ext cx="305280" cy="1486440"/>
          </a:xfrm>
          <a:prstGeom prst="curved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4498200" y="35812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"/>
          <p:cNvCxnSpPr>
            <a:stCxn id="42" idx="1"/>
            <a:endCxn id="45" idx="0"/>
          </p:cNvCxnSpPr>
          <p:nvPr/>
        </p:nvCxnSpPr>
        <p:spPr>
          <a:xfrm flipH="1" flipV="1" rot="10800000">
            <a:off x="4571640" y="3124080"/>
            <a:ext cx="152640" cy="1448280"/>
          </a:xfrm>
          <a:prstGeom prst="curvedConnector4">
            <a:avLst>
              <a:gd name="adj1" fmla="val -2127"/>
              <a:gd name="adj2" fmla="val 40452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2T18:04:20Z</dcterms:created>
  <dc:creator>Jack Lange</dc:creator>
  <dc:description/>
  <dc:language>en-US</dc:language>
  <cp:lastModifiedBy>Jack Lange</cp:lastModifiedBy>
  <dcterms:modified xsi:type="dcterms:W3CDTF">2009-02-27T22:40:32Z</dcterms:modified>
  <cp:revision>5</cp:revision>
  <dc:subject/>
  <dc:title>Slide 1</dc:title>
</cp:coreProperties>
</file>