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45619988" cy="4561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B9F1-2AC3-49CE-8747-99C922AB5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CFB0-CA95-406B-8B17-46597AB11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196F-F7EA-4B27-A72E-0B4F33704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1CA6-189E-4A99-ADFD-0DD1321D8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BE2A-1836-490D-8072-F48E03B08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1379-EEE8-454E-80D2-DFBBB15F0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8227-61A6-4E84-9208-60BD8E2C1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8EDA-BA6B-445F-9C5F-708CF32B3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1502-6336-4721-90F8-C9E8E79CD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34E8-6C0A-423C-A9D9-DB35744D6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07A3-731E-4418-8FB0-31978BD3B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290B-1682-496C-981A-8B5AB45E4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1E12B-BB73-49A0-AC48-5A6C2A6C13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0" y="1676520"/>
            <a:ext cx="2286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~palacios/palacios_mast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2819520"/>
            <a:ext cx="2286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~palacios/palaci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5638680" y="228600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777640" y="23223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38480" y="4572000"/>
            <a:ext cx="13716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5257800"/>
            <a:ext cx="9907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2819520" y="4876560"/>
            <a:ext cx="121896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01120" y="5257800"/>
            <a:ext cx="67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ai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93480" y="373392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83600" y="42670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2" idx="1"/>
            <a:endCxn id="46" idx="0"/>
          </p:cNvCxnSpPr>
          <p:nvPr/>
        </p:nvCxnSpPr>
        <p:spPr>
          <a:xfrm flipV="1" rot="10800000">
            <a:off x="2324160" y="3123720"/>
            <a:ext cx="2248200" cy="213408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4648320" y="533520"/>
            <a:ext cx="2209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Re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5562720" y="99036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717520" y="1295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52" idx="1"/>
            <a:endCxn id="56" idx="6"/>
          </p:cNvCxnSpPr>
          <p:nvPr/>
        </p:nvCxnSpPr>
        <p:spPr>
          <a:xfrm flipV="1" rot="10800000">
            <a:off x="2286000" y="761760"/>
            <a:ext cx="2362680" cy="1143360"/>
          </a:xfrm>
          <a:prstGeom prst="curvedConnector3">
            <a:avLst>
              <a:gd name="adj1" fmla="val 24977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3050640" y="7621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1523880"/>
            <a:ext cx="137160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76520" y="2286000"/>
            <a:ext cx="2361960" cy="2514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10400" y="2438280"/>
            <a:ext cx="67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ai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5" idx="6"/>
            <a:endCxn id="42" idx="2"/>
          </p:cNvCxnSpPr>
          <p:nvPr/>
        </p:nvCxnSpPr>
        <p:spPr>
          <a:xfrm flipV="1">
            <a:off x="5410080" y="3429000"/>
            <a:ext cx="305280" cy="148644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4498200" y="3581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42" idx="1"/>
            <a:endCxn id="45" idx="0"/>
          </p:cNvCxnSpPr>
          <p:nvPr/>
        </p:nvCxnSpPr>
        <p:spPr>
          <a:xfrm flipH="1" flipV="1" rot="10800000">
            <a:off x="4571640" y="3124080"/>
            <a:ext cx="152640" cy="1448280"/>
          </a:xfrm>
          <a:prstGeom prst="curvedConnector4">
            <a:avLst>
              <a:gd name="adj1" fmla="val -2127"/>
              <a:gd name="adj2" fmla="val 404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2T18:04:20Z</dcterms:created>
  <dc:creator>Jack Lange</dc:creator>
  <dc:description/>
  <dc:language>en-US</dc:language>
  <cp:lastModifiedBy>Jack Lange</cp:lastModifiedBy>
  <dcterms:modified xsi:type="dcterms:W3CDTF">2009-02-27T22:40:32Z</dcterms:modified>
  <cp:revision>5</cp:revision>
  <dc:subject/>
  <dc:title>Slide 1</dc:title>
</cp:coreProperties>
</file>